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10.png" ContentType="image/png"/>
  <Override PartName="/ppt/media/image3.pct" ContentType="image/x-pict"/>
  <Override PartName="/ppt/media/image7.jpeg" ContentType="image/jpeg"/>
  <Override PartName="/ppt/media/image12.jpeg" ContentType="image/jpeg"/>
  <Override PartName="/ppt/media/image4.pct" ContentType="image/x-pict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9BA-C304-4C8D-B303-A6632682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DAC-86C2-4D98-982A-FADF24E8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A2B-47E4-4B09-8634-37DCC4E8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A37-4482-4A67-89B7-007BEB49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BDF2-2575-46E5-BD7F-0517A862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43D3-E903-4E5B-9DE8-3E2231B4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5AC9-6DE2-4BED-B838-0FBC4221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B9BA-0B73-45D4-B053-164F9EE5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D8DD-C785-47DF-8798-1E82DB68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45A3-549D-40FE-8215-54AE3A44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D2FE-8C26-473C-9BDC-04A05F37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755-28A6-4B52-8026-6704C53D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F6DD-5E27-4AC6-B175-B92A9A66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CD83-9379-4D06-B981-B7D3990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835A-D503-4181-B30A-F311E73C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0E23-7094-4EAD-BCC0-057233C9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36AC-F044-40C4-AB1F-F788F100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761-2E9B-45DF-9DEC-A40275A7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2C0-E668-4992-9A43-205E40A8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E20-CCD5-4814-BF7B-8E20F36F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912-1015-4227-BA0B-E14418EA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0ED-2126-408B-92C9-71BCC00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989-1732-4461-A94F-B92187CB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45A-B21E-4767-B945-A081343A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9E9B-F386-4794-AF5C-3C12199CAA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7293-E0F6-4A0F-A9BA-311D4A9393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Ocean Acidification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Climate Change Collaborative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47560" y="327672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cia Bernhar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es F. Doughty Scho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im Frat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mon Middle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y Vassili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es F. Doughty School &amp; William S. Cohen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mie Tard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mon High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219320" cy="7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5328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ank You</a:t>
            </a:r>
            <a:br>
              <a:rPr sz="40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Maine Department of Education</a:t>
            </a:r>
            <a:br>
              <a:rPr sz="32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Mathematics &amp; Science Partnership Grant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r Learning Center of M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. Annette Brick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M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Molly Schauff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Deirdre Byr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Fei Ch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. Carrie Armbre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. Lisa Schul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gor School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Betsy We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Donna Wol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mon School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s. Patricia Du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mate Change Collaborat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School, High School, Technical School and Univers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dagogical Content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roup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acidif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19920" y="4343400"/>
            <a:ext cx="2438280" cy="83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019920" y="1828800"/>
            <a:ext cx="243828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ocusing a Climate Change Issu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05120" y="5486400"/>
            <a:ext cx="533376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CNew.com C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Macintosh HD:Users:teacher:Desktop:W9cS0rl_NyI.mov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333760" cy="4000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ssential Ques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an increase in atmospheric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ffect our oceans and what role does climate change have in ocean chemis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514600" cy="232416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/>
            </a:outerShdw>
          </a:effectLst>
        </p:spPr>
      </p:pic>
      <p:sp>
        <p:nvSpPr>
          <p:cNvPr id="223" name=""/>
          <p:cNvSpPr/>
          <p:nvPr/>
        </p:nvSpPr>
        <p:spPr>
          <a:xfrm>
            <a:off x="1600200" y="571500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shiftingbaselines.org/blog/imagges/pt_warming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rontloading Activities</a:t>
            </a:r>
            <a:br>
              <a:rPr sz="44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Jim Fratini @ Hermon Middle School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ike as a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impact on Earth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 &amp; Resear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of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Ocea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safety and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0286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2C Lesson</a:t>
            </a:r>
            <a:br>
              <a:rPr sz="36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Buffer Properties of Seawater Inquiry Guid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ille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rop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 Hydr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ly used wide range 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ed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udent Work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213336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038320" cy="20955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2895480" y="2666880"/>
            <a:ext cx="5867640" cy="3667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553080" y="914400"/>
            <a:ext cx="1905120" cy="15318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ccomplishment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forced student processing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qui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ing &amp; Extrapolating from grap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wing conc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ing real world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Students for High School and Colle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ofessional Growth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dagogical Content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qui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Preconceptions &amp; Giving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Processing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vertical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1371600" cy="8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048120" y="4343400"/>
            <a:ext cx="2982960" cy="2236680"/>
          </a:xfrm>
          <a:prstGeom prst="rect">
            <a:avLst/>
          </a:prstGeom>
          <a:ln w="9360">
            <a:solidFill>
              <a:srgbClr val="afe1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971800" cy="2292480"/>
          </a:xfrm>
          <a:prstGeom prst="rect">
            <a:avLst/>
          </a:prstGeom>
          <a:ln w="9360">
            <a:solidFill>
              <a:srgbClr val="afe1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9:19:54Z</dcterms:created>
  <dc:creator>Michael Nolette</dc:creator>
  <dc:description/>
  <dc:language>en-US</dc:language>
  <cp:lastModifiedBy>Tracy  Vassiliev</cp:lastModifiedBy>
  <cp:lastPrinted>2009-05-12T09:05:12Z</cp:lastPrinted>
  <dcterms:modified xsi:type="dcterms:W3CDTF">2010-04-08T21:32:23Z</dcterms:modified>
  <cp:revision>17</cp:revision>
  <dc:subject/>
  <dc:title>Ocean Acidification Climate Change Collaborative</dc:title>
</cp:coreProperties>
</file>